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0.pct" ContentType="image/x-pict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1A7D-BB61-4ED6-8E5C-0E7DCEE2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40B-DE99-4CA4-A016-59EFF4BB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3AB-F55D-4A64-938D-C525FE33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572-8BC0-4382-B3F7-0EF32070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C62-2A90-461B-8FDA-F732C5F5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9F4-C763-4CC0-862C-8B6E821C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A16-01E0-4DD9-8FCF-E64FB847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689-6D9D-4B72-B4C0-7D71A378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BC0-AC28-497B-BF9D-9DB9C48D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A05-937A-4C2A-909B-E92343F0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417-AA7F-40A5-B195-95267616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406-2734-4750-9348-9C9A09F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812-547F-473C-8183-A1898BD3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63F3-738A-4A4C-870B-CA84BD09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al Center for Biomedic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SF – Oregon – Cam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ioontolog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September 2005 to provide a national focus on the use of ontologies in the bio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ortium that brings together investigator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ford University (Ontology-management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rence Berkeley Labs (Use of ontologies for data ann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Victoria (Ontology and data vis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o Clinic (Access to controlled clinical termi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Y Buffalo (Best practices for ontology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goal: Industrial-strength technology for use of ontologies in e-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6415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4280" y="101268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880" y="0"/>
            <a:ext cx="8456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5" idx="4"/>
            <a:endCxn id="106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5" idx="1"/>
            <a:endCxn id="104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4" idx="4"/>
            <a:endCxn id="106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cience needs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for the National Cent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Biomedical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ontology libraries in cyb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data standards for ontolog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methods for ontology indexing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-to-use portals for ontology access, annotation, and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user platforms for putting ontologies to us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-langu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pplications that we have not yet thought o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752480" y="1447920"/>
          <a:ext cx="5334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533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 to collaborate with the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enter’s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ng ontologies to the OBO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 proposal to the NIH for a “collaborating R01”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a biological driving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72400" y="6083280"/>
            <a:ext cx="1371600" cy="77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4800" y="6248520"/>
            <a:ext cx="37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ioontolog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752480" y="1447920"/>
          <a:ext cx="5334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533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437920"/>
            <a:ext cx="221004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t have adopted 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canonical representation of scientific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notate experimental data to enable interpretation and comparison across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cilitate knowledge-based application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-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757080"/>
            <a:ext cx="7315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rtion of the OB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893880"/>
            <a:ext cx="7924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ledge workers seem trapped in a pre-industrial 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ntologies are of relatively small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ntologies are built and refined by small groups working arduously i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rests heavily on the particular talents of individual artisans, rather than on standard operating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urgent need for technologies to make this process “faster, better, chea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71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04:53Z</dcterms:created>
  <dc:creator>Mark Musen</dc:creator>
  <dc:description/>
  <dc:language>en-US</dc:language>
  <cp:lastModifiedBy>SMI</cp:lastModifiedBy>
  <dcterms:modified xsi:type="dcterms:W3CDTF">2006-02-13T10:49:32Z</dcterms:modified>
  <cp:revision>55</cp:revision>
  <dc:subject/>
  <dc:title>The End of a Cottage Industry: The coming industrial revolution for biomedical ontologies</dc:title>
</cp:coreProperties>
</file>